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E70-8A5B-4D9E-9606-0B2C48BF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6F9-737B-4892-8E2B-853DF1E7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E1B-9E33-4525-AE04-90BCE83B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58D-5D2D-435B-98FD-A45F41A5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1DEA8-83D8-4F02-9B60-271BF387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8DDE8-5C04-40A1-9F1C-D383A31F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CCE6A-70D1-4619-BBA9-FD459B41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6DD47-C1C7-43F7-B7AC-A4F831F1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7EBF5-B38A-4F7F-A092-3F31DDA4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0B408-81E3-4907-95BE-EE660583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565F5-9447-4199-9F9C-12C3D8F7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62A-67C7-411E-82F8-62467B6F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4D45C-15A0-4B2E-86A2-4E19E1A6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86CCF-8079-4627-A81A-871C2814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65EB4-2F14-480D-AA67-7B939EE3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00B43-165D-4AC4-9118-A2CAF94B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0849E-79AC-41E1-B5C7-35921B4F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508B4-BD6C-4070-97B1-B9278401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3512B-7D5F-441B-BFF3-5785CC8C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DC024-0AB0-4776-97A2-9439A18D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E3D77-737A-497A-B6D0-24405910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0512C-108E-4DC3-AFB0-D9F6E23C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A96-B3D8-4D51-B25C-81E38F73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CCF87-0563-404A-B688-1AD65280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02C72-2C08-44B8-9443-8D0BDFE2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31962-E977-4250-8B23-B95FA677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0D81E-4450-47FB-A9EB-005161CD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F4235-5AE9-493C-ADAB-C8818DC5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5CC7C-5C71-4E2D-BB5C-5E72357B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AAE90-DEFE-4D05-82BF-084B6126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64FD6-2C34-464A-B0DB-845933C8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28CB9D-768E-4D25-B302-01451B98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9D8E8-0A75-44EE-87FC-80764D8A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950-D38C-4ADF-B303-78FF4AE0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11BB9-34B1-4DCB-85AC-9FAA94FC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37191-AF82-4925-8826-B603CD21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96E10-B5A0-40E0-8A13-B920F87E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756025-8019-4473-9F28-2E2C109A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2BFE3-DA76-41DF-86CB-0E1D461E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EBFDE-D153-4A2D-9BC1-C2DC9DAC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E62DE-25A0-4F5E-AF34-BFD7B6E8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B3317B-A248-40DB-8FBB-4FCAF0E5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A0560-5A5C-43AF-9A74-681BF5F9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33C96-5A01-4BE3-BEA1-BDB9A31C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6E7-0B29-49A9-9112-E4F88E47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C646B-CDC4-4C4D-A494-D3D5A971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037D1-AC86-4392-B06E-89A34895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975FC-AD05-4D74-B480-184644E9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847CE-7014-43CF-91ED-1145B26B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BC184-777C-4CFD-8F26-0BBED525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C2D6F-E06A-41AA-A965-0E9DBF15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24C61-F325-478A-B5DF-BE942BA4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3619E-B074-4333-A785-15A5ACC7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EC501-1782-426E-8B9C-64DE0F64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A32CD-5418-4DDE-9151-8DDDF853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A53-9E53-48EF-B033-5651AE60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EBF81-9423-4AE4-B34F-E60E934F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92E-90B4-4FD2-839D-6045818F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B90-09FB-436C-B2EB-EB70D69F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67F-E60A-4605-B518-58C5AFA3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Bitstream Vera Sans Mon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A12E-5E50-414B-9221-0CEFF8403647}" type="slidenum">
              <a:rPr b="0" lang="fr-FR" sz="1200" spc="-1" strike="noStrike">
                <a:solidFill>
                  <a:srgbClr val="898989"/>
                </a:solidFill>
                <a:latin typeface="Bitstream Vera Sans Mo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Bitstream Vera Sans Mon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898A-8B7F-4583-BF2A-14F0E30D5B90}" type="slidenum">
              <a:rPr b="0" lang="fr-FR" sz="1200" spc="-1" strike="noStrike">
                <a:solidFill>
                  <a:srgbClr val="898989"/>
                </a:solidFill>
                <a:latin typeface="Bitstream Vera Sans Mo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Bitstream Vera Sans Mon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2940-8871-43C4-AB24-E71C7384AF55}" type="slidenum">
              <a:rPr b="0" lang="fr-FR" sz="1200" spc="-1" strike="noStrike">
                <a:solidFill>
                  <a:srgbClr val="898989"/>
                </a:solidFill>
                <a:latin typeface="Bitstream Vera Sans Mo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Bitstream Vera Sans Mon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0F14-286B-41AD-8621-10E05FBA871F}" type="slidenum">
              <a:rPr b="0" lang="fr-FR" sz="1200" spc="-1" strike="noStrike">
                <a:solidFill>
                  <a:srgbClr val="898989"/>
                </a:solidFill>
                <a:latin typeface="Bitstream Vera Sans Mo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Bitstream Vera Sans Mon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8E23-F93F-4DAB-8DB4-83B0E88B500C}" type="slidenum">
              <a:rPr b="0" lang="fr-FR" sz="1200" spc="-1" strike="noStrike">
                <a:solidFill>
                  <a:srgbClr val="898989"/>
                </a:solidFill>
                <a:latin typeface="Bitstream Vera Sans Mo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5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8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971640" y="1989000"/>
            <a:ext cx="7345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Raavi"/>
              </a:rPr>
              <a:t>LES PLUIES ACIDES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5400000"/>
              </a:gradFill>
              <a:latin typeface="Raavi"/>
              <a:ea typeface="Raav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ECANISMES CHIMIQU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CONDUISANT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 A LA FORMATION DES PLUIES ACIDES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0000ff"/>
                </a:solidFill>
                <a:uFillTx/>
                <a:latin typeface="Calibri"/>
              </a:rPr>
              <a:t>a) Formation de l'acide sulfurique H</a:t>
            </a:r>
            <a:r>
              <a:rPr b="1" i="1" lang="fr-FR" sz="2400" spc="-1" strike="noStrike" u="sng">
                <a:solidFill>
                  <a:srgbClr val="0000ff"/>
                </a:solidFill>
                <a:uFillTx/>
                <a:latin typeface="Calibri"/>
              </a:rPr>
              <a:t>2</a:t>
            </a:r>
            <a:r>
              <a:rPr b="1" i="1" lang="fr-FR" sz="3200" spc="-1" strike="noStrike" u="sng">
                <a:solidFill>
                  <a:srgbClr val="0000ff"/>
                </a:solidFill>
                <a:uFillTx/>
                <a:latin typeface="Calibri"/>
              </a:rPr>
              <a:t>SO</a:t>
            </a:r>
            <a:r>
              <a:rPr b="1" i="1" lang="fr-FR" sz="2400" spc="-1" strike="noStrike" u="sng">
                <a:solidFill>
                  <a:srgbClr val="0000ff"/>
                </a:solidFill>
                <a:uFillTx/>
                <a:latin typeface="Calibri"/>
              </a:rPr>
              <a:t>4</a:t>
            </a:r>
            <a:r>
              <a:rPr b="1" i="1" lang="fr-FR" sz="32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remière étape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 : Le dioxyde de soufre s'oxyde pour former du trioxyde de souf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+ 1/2 O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  -&gt;   SO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Seconde étape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 : Formation d’acide sulfuriq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O   -&gt;   H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MECANISMES CHIMIQUES CONDUISANT A LA FORMATION DES PLUIES ACIDES 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0000ff"/>
                </a:solidFill>
                <a:uFillTx/>
                <a:latin typeface="Calibri"/>
              </a:rPr>
              <a:t>b) Formation de l'acide nitrique HNO</a:t>
            </a:r>
            <a:r>
              <a:rPr b="1" i="1" lang="fr-FR" sz="24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i="1" lang="fr-FR" sz="24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remière étape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 : transformation du monoxyde d'azote (N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NO + 1/2 O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   -&gt;   NO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Deuxième étape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 : Formation de l’acide nitriq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3NO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O  -&gt;  2HNO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 + 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MECANISMES CHIMIQUES CONDUISANT A LA FORMATION DES PLUIES ACIDES 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L'atmosphère est donc chargée en acide nitrique et en acide sulfurique qui se retrouvent dans les plu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contact de l’eau, ces deux acides vont alors libérer des ions hydrogènes responsables de l’acidité des pluies. Les réactions chimiques sont les suivantes 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HNO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 (en solution)  -&gt;  H</a:t>
            </a:r>
            <a:r>
              <a:rPr b="1" i="1" lang="fr-FR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 + NO</a:t>
            </a:r>
            <a:r>
              <a:rPr b="1" i="1" lang="fr-FR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fr-FR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 (en solution)  -&gt; SO</a:t>
            </a:r>
            <a:r>
              <a:rPr b="1" i="1" lang="fr-FR" sz="1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i="1" lang="fr-FR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 + 2 H</a:t>
            </a:r>
            <a:r>
              <a:rPr b="1" i="1" lang="fr-FR" sz="2400" spc="-1" strike="noStrike" baseline="30000">
                <a:solidFill>
                  <a:srgbClr val="000000"/>
                </a:solidFill>
                <a:latin typeface="Calibri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ystème ne fonctionne que parce que l'on insère des pollu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Le cycle des pluies acid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676520" y="2262240"/>
            <a:ext cx="57909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II) CONSEQUENCES SUR L’ENVIRONNEMENT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3" descr="lac4"/>
          <p:cNvPicPr/>
          <p:nvPr/>
        </p:nvPicPr>
        <p:blipFill>
          <a:blip r:embed="rId1"/>
          <a:stretch/>
        </p:blipFill>
        <p:spPr>
          <a:xfrm>
            <a:off x="1960560" y="2330280"/>
            <a:ext cx="1031760" cy="725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foret"/>
          <p:cNvPicPr/>
          <p:nvPr/>
        </p:nvPicPr>
        <p:blipFill>
          <a:blip r:embed="rId2"/>
          <a:stretch/>
        </p:blipFill>
        <p:spPr>
          <a:xfrm>
            <a:off x="5243400" y="1741320"/>
            <a:ext cx="2847960" cy="190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acid_rain"/>
          <p:cNvPicPr/>
          <p:nvPr/>
        </p:nvPicPr>
        <p:blipFill>
          <a:blip r:embed="rId3"/>
          <a:stretch/>
        </p:blipFill>
        <p:spPr>
          <a:xfrm>
            <a:off x="1866960" y="4626000"/>
            <a:ext cx="1219320" cy="812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arbre"/>
          <p:cNvPicPr/>
          <p:nvPr/>
        </p:nvPicPr>
        <p:blipFill>
          <a:blip r:embed="rId4"/>
          <a:stretch/>
        </p:blipFill>
        <p:spPr>
          <a:xfrm>
            <a:off x="5799240" y="3938760"/>
            <a:ext cx="17366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Bitstream Vera Serif"/>
              </a:rPr>
              <a:t>1) EFFETS SUR LES MILIEUX AQUA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3" descr="http://www.univ-savoie.fr/mse/ressources/rapports/rapports00/Luiset/Image20.gif"/>
          <p:cNvPicPr/>
          <p:nvPr/>
        </p:nvPicPr>
        <p:blipFill>
          <a:blip r:embed="rId1"/>
          <a:srcRect l="0" t="0" r="0" b="9450"/>
          <a:stretch/>
        </p:blipFill>
        <p:spPr>
          <a:xfrm>
            <a:off x="1476360" y="4437000"/>
            <a:ext cx="6407280" cy="1990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826920" y="2133720"/>
            <a:ext cx="3745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2 Types de précipitations dévastatrices:</a:t>
            </a: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luie et neige</a:t>
            </a: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148360" y="2205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aible pouvoir tampon des lacs</a:t>
            </a: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419640" y="364500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ugmentation de l’acidité</a:t>
            </a: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3708360" y="3284640"/>
            <a:ext cx="57636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47" name="Line 8"/>
          <p:cNvSpPr/>
          <p:nvPr/>
        </p:nvSpPr>
        <p:spPr>
          <a:xfrm flipH="1">
            <a:off x="5148360" y="3213000"/>
            <a:ext cx="50328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971640" y="15573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0000ff"/>
                </a:solidFill>
                <a:uFillTx/>
                <a:latin typeface="Comic Sans MS"/>
              </a:rPr>
              <a:t>a) Premièrement en augmentant l’acidité:</a:t>
            </a: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95280" y="23493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Augmentation de l’acidité </a:t>
            </a: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4211640" y="2565360"/>
            <a:ext cx="934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411280" y="4653000"/>
            <a:ext cx="3961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Comic Sans MS"/>
              </a:rPr>
              <a:t>Conséquence</a:t>
            </a: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Bitstream Vera Sans Mono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les métaux deviennent toxiques</a:t>
            </a:r>
            <a:endParaRPr b="0" lang="en-US" sz="2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160640" y="3057480"/>
            <a:ext cx="6697440" cy="10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Exemple de l’Aluminium:</a:t>
            </a:r>
            <a:endParaRPr b="0" lang="en-US" sz="2200" spc="-1" strike="noStrike">
              <a:solidFill>
                <a:srgbClr val="000000"/>
              </a:solidFill>
              <a:latin typeface="Bitstream Vera Sans Mono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mic Sans MS"/>
              </a:rPr>
              <a:t>Al(OH)</a:t>
            </a:r>
            <a:r>
              <a:rPr b="1" i="1" lang="fr-FR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i="1" lang="fr-FR" sz="2200" spc="-1" strike="noStrike">
                <a:solidFill>
                  <a:srgbClr val="000000"/>
                </a:solidFill>
                <a:latin typeface="Comic Sans MS"/>
              </a:rPr>
              <a:t>  -&gt;  Al</a:t>
            </a:r>
            <a:r>
              <a:rPr b="1" i="1" lang="fr-FR" sz="24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1" i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fr-FR" sz="2200" spc="-1" strike="noStrike">
                <a:solidFill>
                  <a:srgbClr val="000000"/>
                </a:solidFill>
                <a:latin typeface="Comic Sans MS"/>
              </a:rPr>
              <a:t>+ 3OH</a:t>
            </a:r>
            <a:r>
              <a:rPr b="1" i="1" lang="fr-FR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i="1" lang="fr-FR" sz="3200" spc="-1" strike="noStrike" u="sng">
                <a:solidFill>
                  <a:srgbClr val="000000"/>
                </a:solidFill>
                <a:uFillTx/>
                <a:latin typeface="Bitstream Vera Serif"/>
              </a:rPr>
              <a:t>Effets sur les milieux aquatiq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1116000" y="141300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0000ff"/>
                </a:solidFill>
                <a:uFillTx/>
                <a:latin typeface="Comic Sans MS"/>
              </a:rPr>
              <a:t>b) Deuxièmement en augmentant la solubilité des métaux:</a:t>
            </a: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5292720" y="2349360"/>
            <a:ext cx="36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Augmentation solubilité</a:t>
            </a:r>
            <a:endParaRPr b="0" lang="en-US" sz="22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Effets sur les milieux aquatiqu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rcRect l="0" t="0" r="0" b="8561"/>
          <a:stretch/>
        </p:blipFill>
        <p:spPr>
          <a:xfrm>
            <a:off x="2771640" y="3429000"/>
            <a:ext cx="4319640" cy="22161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8"/>
          <p:cNvSpPr/>
          <p:nvPr/>
        </p:nvSpPr>
        <p:spPr>
          <a:xfrm>
            <a:off x="1403280" y="1844640"/>
            <a:ext cx="69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chéma montrant l'acidification d'un plan d'eau à partir d'une pluie acide et par le parcours de cette dernière dans le sol:</a:t>
            </a: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611280" y="404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Bitstream Vera Serif"/>
              </a:rPr>
              <a:t>2)EFFETS SUR LES ARBRES ET LES SOLS:</a:t>
            </a:r>
            <a:endParaRPr b="0" lang="en-US" sz="2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4360" y="2349360"/>
            <a:ext cx="7632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Absorption de métaux</a:t>
            </a:r>
            <a:endParaRPr b="0" lang="en-US" sz="22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Lessivage des sols, d’où faible pouvoir tampon</a:t>
            </a:r>
            <a:endParaRPr b="0" lang="en-US" sz="2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763640" y="4365720"/>
            <a:ext cx="53294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Jaunissement des feuilles, nécroses et défoliation</a:t>
            </a:r>
            <a:endParaRPr b="0" lang="en-US" sz="2200" spc="-1" strike="noStrike">
              <a:solidFill>
                <a:srgbClr val="000000"/>
              </a:solidFill>
              <a:latin typeface="Bitstream Vera Sans Mono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Croissance trop rapide</a:t>
            </a:r>
            <a:endParaRPr b="0" lang="en-US" sz="2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4572000" y="350028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263" name="Picture 6" descr="BrancheEpiceaJaune"/>
          <p:cNvPicPr/>
          <p:nvPr/>
        </p:nvPicPr>
        <p:blipFill>
          <a:blip r:embed="rId1"/>
          <a:stretch/>
        </p:blipFill>
        <p:spPr>
          <a:xfrm>
            <a:off x="5867280" y="4869000"/>
            <a:ext cx="2592360" cy="1699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 u="sng">
                <a:solidFill>
                  <a:srgbClr val="000000"/>
                </a:solidFill>
                <a:uFillTx/>
                <a:latin typeface="Bitstream Vera Serif"/>
              </a:rPr>
              <a:t>3)EFFETS SUR LES ETRES VIVA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8000" y="1988640"/>
            <a:ext cx="806436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ES HOM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oblèmes respiratoires (asthme, toux sèches, irrita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ioaccumulation de métaux lou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468360" y="4653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i="1" lang="fr-FR" sz="3200" spc="-1" strike="noStrike" u="sng">
                <a:solidFill>
                  <a:srgbClr val="000000"/>
                </a:solidFill>
                <a:uFillTx/>
                <a:latin typeface="Garamond"/>
              </a:rPr>
              <a:t>LA FAUNE</a:t>
            </a: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Morts dérivées </a:t>
            </a: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 u="sng">
                <a:solidFill>
                  <a:srgbClr val="000000"/>
                </a:solidFill>
                <a:uFillTx/>
                <a:latin typeface="Bitstream Vera Serif"/>
              </a:rPr>
              <a:t>4)EFFETS SUR LES MONUMENT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estruction des                                             matéri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rrosion des mét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7" descr="T304405A"/>
          <p:cNvPicPr/>
          <p:nvPr/>
        </p:nvPicPr>
        <p:blipFill>
          <a:blip r:embed="rId1"/>
          <a:stretch/>
        </p:blipFill>
        <p:spPr>
          <a:xfrm>
            <a:off x="4648320" y="2359080"/>
            <a:ext cx="4038480" cy="30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 u="sng">
                <a:solidFill>
                  <a:srgbClr val="000000"/>
                </a:solidFill>
                <a:uFillTx/>
                <a:latin typeface="Comic Sans MS"/>
              </a:rPr>
              <a:t>III) Les moyens de prévention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1)Remèdes réduisant les dégâ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4920" y="1599840"/>
            <a:ext cx="7489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chaul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anger les métho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’agriculture et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ylv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lac"/>
          <p:cNvPicPr/>
          <p:nvPr/>
        </p:nvPicPr>
        <p:blipFill>
          <a:blip r:embed="rId1"/>
          <a:stretch/>
        </p:blipFill>
        <p:spPr>
          <a:xfrm>
            <a:off x="1116000" y="1557360"/>
            <a:ext cx="3192480" cy="2394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304phot03"/>
          <p:cNvPicPr/>
          <p:nvPr/>
        </p:nvPicPr>
        <p:blipFill>
          <a:blip r:embed="rId2"/>
          <a:stretch/>
        </p:blipFill>
        <p:spPr>
          <a:xfrm>
            <a:off x="5219640" y="3645000"/>
            <a:ext cx="3456000" cy="26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2)REMEDES REDUISANT LES PLUIES ACID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8360" y="1557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ff"/>
                </a:solidFill>
                <a:uFillTx/>
                <a:latin typeface="Comic Sans MS"/>
              </a:rPr>
              <a:t>ACTION SUR LES SOURC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On retrouve dans ce type de pollution l’industrie et le chauff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Pour le soufre: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Avant combustion:, l'adjonction de chaux 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chaulag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 ou de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carbonate de calcium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permet la fixation de 80 à 90% du soufre contenu dans les combustib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près combustion, la fixation des rejets sous forme de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boues de sulfit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u sulfates permet d'éliminer 80 à 90% du souf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Pour les NOx: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iminuer la T° de combus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 plus le procédé de dénitrification des gaz par l'ammoniac élimine 90% des NOx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Économiser les éner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tiliser des sources d’énergies non pollu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eolienne"/>
          <p:cNvPicPr/>
          <p:nvPr/>
        </p:nvPicPr>
        <p:blipFill>
          <a:blip r:embed="rId1"/>
          <a:stretch/>
        </p:blipFill>
        <p:spPr>
          <a:xfrm>
            <a:off x="5148360" y="1197000"/>
            <a:ext cx="3600360" cy="242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78" name="Picture 3" descr="991009-012_Panneaux_Solaires"/>
          <p:cNvPicPr/>
          <p:nvPr/>
        </p:nvPicPr>
        <p:blipFill>
          <a:blip r:embed="rId2"/>
          <a:stretch/>
        </p:blipFill>
        <p:spPr>
          <a:xfrm>
            <a:off x="3132000" y="4653000"/>
            <a:ext cx="3168720" cy="203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79" name="Picture 4" descr="type3"/>
          <p:cNvPicPr/>
          <p:nvPr/>
        </p:nvPicPr>
        <p:blipFill>
          <a:blip r:embed="rId3"/>
          <a:stretch/>
        </p:blipFill>
        <p:spPr>
          <a:xfrm>
            <a:off x="1116000" y="1197000"/>
            <a:ext cx="3171960" cy="2381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80" name="Text Box 5"/>
          <p:cNvSpPr/>
          <p:nvPr/>
        </p:nvSpPr>
        <p:spPr>
          <a:xfrm>
            <a:off x="1258920" y="18900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entrales hydrauliques</a:t>
            </a: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867280" y="260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olienne</a:t>
            </a: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6659640" y="472428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3276720" y="364500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anneaux solaires</a:t>
            </a: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0000ff"/>
                </a:solidFill>
                <a:uFillTx/>
                <a:latin typeface="Comic Sans MS"/>
              </a:rPr>
              <a:t>ACTION SUR LES SOURCES MOB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s émetteurs sont essentiellement tous les transports en particulier les voiture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urifier les gaz d’échapp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tiliser des moyens de transports moins ou non pollu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nger notre compor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FR" sz="65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Quelle est l’origine des pluies acid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898989"/>
                </a:solidFill>
                <a:latin typeface="Monotype Corsiva"/>
              </a:rPr>
              <a:t>Quels effets ont-elles sur l’environnem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I) FORMATIONS DES PLUIES AC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récipitations acides sont dues à la présence dans l’atmosphè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’oxydes de soufre (il représente environ 2/3 des contaminant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’oxydes d’azotes (il représente l’autre tier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s composés gazeux réagissent avec l’humidité de l’air pour former les acides forts tombant au sol avec les précipita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3" descr="images[71]"/>
          <p:cNvPicPr/>
          <p:nvPr/>
        </p:nvPicPr>
        <p:blipFill>
          <a:blip r:embed="rId1"/>
          <a:stretch/>
        </p:blipFill>
        <p:spPr>
          <a:xfrm>
            <a:off x="3571920" y="5272200"/>
            <a:ext cx="2295360" cy="15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1) Sources des polluants à l’origine des pluies aci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 Black"/>
              </a:rPr>
              <a:t>) le dioxyde de soufre</a:t>
            </a:r>
            <a:r>
              <a:rPr b="1" i="1" lang="fr-FR" sz="1600" spc="-1" strike="noStrike">
                <a:solidFill>
                  <a:srgbClr val="0000ff"/>
                </a:solidFill>
                <a:latin typeface="Arial Black"/>
              </a:rPr>
              <a:t> 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80"/>
                </a:solidFill>
                <a:latin typeface="Calibri"/>
              </a:rPr>
              <a:t>-</a:t>
            </a:r>
            <a:r>
              <a:rPr b="1" lang="fr-FR" sz="1600" spc="-1" strike="noStrike">
                <a:solidFill>
                  <a:srgbClr val="800080"/>
                </a:solidFill>
                <a:latin typeface="Arial Black"/>
              </a:rPr>
              <a:t>Anthropiqu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a combustion de l'énergie fossile: 2/3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charbon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, 1/3 huiles lourdes (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pétrol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es centrales thermiqu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es raffineries de pétro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es installations de chauffage (domestique ou industrielle) et les industries  comportant des fours (traitement de minerais, sidérurgie,cimenteri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5" descr="Image18"/>
          <p:cNvPicPr/>
          <p:nvPr/>
        </p:nvPicPr>
        <p:blipFill>
          <a:blip r:embed="rId1"/>
          <a:stretch/>
        </p:blipFill>
        <p:spPr>
          <a:xfrm>
            <a:off x="2987640" y="3938760"/>
            <a:ext cx="316872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Sources des polluants à l’origine des pluies aci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 Black"/>
              </a:rPr>
              <a:t>le dioxyde de soufre</a:t>
            </a:r>
            <a:r>
              <a:rPr b="1" i="1" lang="fr-FR" sz="1600" spc="-1" strike="noStrike">
                <a:solidFill>
                  <a:srgbClr val="0000ff"/>
                </a:solidFill>
                <a:latin typeface="Arial Black"/>
              </a:rPr>
              <a:t> 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80"/>
                </a:solidFill>
                <a:latin typeface="Arial Black"/>
              </a:rPr>
              <a:t>Nature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volcans produisent plusieurs dizaines de Mtonnes de SO2 /an et les émissions d'origine biologique (décomposition des acides aminés soufrés par les bactéries) sont de l'ordre de 50Mtonnes /an.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6" descr="images[58]"/>
          <p:cNvPicPr/>
          <p:nvPr/>
        </p:nvPicPr>
        <p:blipFill>
          <a:blip r:embed="rId1"/>
          <a:stretch/>
        </p:blipFill>
        <p:spPr>
          <a:xfrm>
            <a:off x="5219640" y="2492280"/>
            <a:ext cx="276084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Sources des polluants à l’origine des pluies aci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ff"/>
                </a:solidFill>
                <a:latin typeface="Arial Black"/>
              </a:rPr>
              <a:t>b) </a:t>
            </a:r>
            <a:r>
              <a:rPr b="1" i="1" lang="fr-FR" sz="1200" spc="-1" strike="noStrike" u="sng">
                <a:solidFill>
                  <a:srgbClr val="0000ff"/>
                </a:solidFill>
                <a:uFillTx/>
                <a:latin typeface="Arial Black"/>
              </a:rPr>
              <a:t>les oxydes d’azote</a:t>
            </a:r>
            <a:r>
              <a:rPr b="1" i="1" lang="fr-FR" sz="1200" spc="-1" strike="noStrike">
                <a:solidFill>
                  <a:srgbClr val="0000ff"/>
                </a:solidFill>
                <a:latin typeface="Arial Black"/>
              </a:rPr>
              <a:t> 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00080"/>
                </a:solidFill>
                <a:latin typeface="Arial Black"/>
              </a:rPr>
              <a:t>-Anthropiqu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60Mtonnes /an produites au niveau mondial proviennent d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combustion dans les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oteur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carburants) et dans les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central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thermiques (combustibles) des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fuel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fossiles constitue la principale source d’émissions de NOx (45%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combustion de certaines matières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lastiqu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enant l’élément azote N, (par exemple le nylon) entraîne la libération dans l’atmosphère de composés azoté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combustion de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biomass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à des fins agrico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jet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d'uré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es animaux  (sous forme de N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" descr="Image19"/>
          <p:cNvPicPr/>
          <p:nvPr/>
        </p:nvPicPr>
        <p:blipFill>
          <a:blip r:embed="rId1"/>
          <a:stretch/>
        </p:blipFill>
        <p:spPr>
          <a:xfrm>
            <a:off x="3643200" y="4626000"/>
            <a:ext cx="2554560" cy="19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Sources des polluants à l’origine des pluies aci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ff"/>
                </a:solidFill>
                <a:uFillTx/>
                <a:latin typeface="Arial Black"/>
              </a:rPr>
              <a:t>Les oxydes d’az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80"/>
                </a:solidFill>
                <a:latin typeface="Arial Black"/>
              </a:rPr>
              <a:t>Nature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micro-organismes vivants et les processus microbiologiques émettent 14Mtonnes /an en moyenne. Les oxydes d’azote peuvent également être produits dans l’atmosphère par décharge électrique lors de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orages,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50% des monoxydes d’azote sont produits de cette faç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5" descr="images[4]"/>
          <p:cNvPicPr/>
          <p:nvPr/>
        </p:nvPicPr>
        <p:blipFill>
          <a:blip r:embed="rId1"/>
          <a:stretch/>
        </p:blipFill>
        <p:spPr>
          <a:xfrm>
            <a:off x="5991120" y="3402000"/>
            <a:ext cx="1352520" cy="9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2) MECANISMES CHIMIQUES CONDUISANT A LA FORMATION DES PLUIES ACIDES 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pluie non contaminée possède un pH d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5,6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r les précipitations acides ont un pH inférieur à 5,6 et sont principalement dues à la transformation du dioxyde de soufre (SO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 et des oxydes d'azote (NOx) en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polluants secondair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secs ou humides comme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l'acide sulfurique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 (H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) et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l'acide nitrique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 (HNO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51Z</dcterms:created>
  <dc:creator>lafitte jérôme</dc:creator>
  <dc:description/>
  <dc:language>en-US</dc:language>
  <cp:lastModifiedBy>TOSHIBAPC</cp:lastModifiedBy>
  <dcterms:modified xsi:type="dcterms:W3CDTF">2022-12-03T13:15:33Z</dcterms:modified>
  <cp:revision>16</cp:revision>
  <dc:subject/>
  <dc:title>LES PLUIES ACIDES</dc:title>
</cp:coreProperties>
</file>